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4.jpeg" ContentType="image/jpeg"/>
  <Override PartName="/ppt/media/image31.jpeg" ContentType="image/jpeg"/>
  <Override PartName="/ppt/media/image2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27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E7E-C22F-4227-8581-ACC8F1B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EBD-B5C7-4566-B0A6-F4AF18C3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9A6-E7EB-439A-A348-1CB6639A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B5F-EE8F-4027-87DF-9DE0FBC6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7F0-07B6-43F4-84A1-CCE57C1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2FB-397C-4E82-8987-DB384F30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40E-C702-4EC2-BE29-5ABE7849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B2E-EA9E-4AFD-B77B-5490E70E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784-B7AC-4731-88B1-D3B26770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FA6-D576-4CB2-AB10-366A92E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2EF-994A-48F0-8DE6-5978557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9B9-77A4-49FD-81BE-454C1AF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B808-6B09-4C71-A5EA-ED57D701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\\udfs01\hstshare\DeLaurentis - Biology 392\Biology 392\Unit 3 - Chapters 10, 36.3, 11, 12, 13, 14\Chapter 11 - Meiosis and Intro to Genetics\Chapter 11-3 and 5 - Mend Genetics, Linkage + Gene Maps\Biology 392\Unit 3 - Chapters 10, 36.3, 11, 12, 13, 14\Chapter 11 - Meiosis and Intro to Genetics\Movies\Chapter 11E.mpg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\\udfs01\hstshare\DeLaurentis - Biology 392\Biology 392\Unit 3 - Chapters 10, 36.3, 11, 12, 13, 14\Chapter 11 - Meiosis and Intro to Genetics\Chapter 11-3 and 5 - Mend Genetics, Linkage + Gene Maps\Biology 392\Unit 3 - Chapters 10, 36.3, 11, 12, 13, 14\Chapter 11 - Meiosis and Intro to Genetics\Movies\Chapter 11D.m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 3: Exploring Mendelian Genet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5: Linkage and Gene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2921040" cy="274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199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ing the 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gen now has: 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ter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 to each of the 2 letters in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ter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 to each of the 2 letters in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R r Y 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ossibilities: RY, Ry, rY, 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Down Arrow 10"/>
          <p:cNvSpPr/>
          <p:nvPr/>
        </p:nvSpPr>
        <p:spPr>
          <a:xfrm>
            <a:off x="3352680" y="4038480"/>
            <a:ext cx="1752840" cy="381240"/>
          </a:xfrm>
          <a:custGeom>
            <a:avLst/>
            <a:gdLst>
              <a:gd name="textAreaLeft" fmla="*/ 386640 w 1752840"/>
              <a:gd name="textAreaRight" fmla="*/ 1297440 w 17528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5" hR="21600" stAng="10800000" swAng="5400000"/>
                <a:lnTo>
                  <a:pt x="11222" y="0"/>
                </a:lnTo>
                <a:arcTo wR="9535" hR="21600" stAng="-5400000" swAng="3580500"/>
                <a:lnTo>
                  <a:pt x="21297" y="16200"/>
                </a:lnTo>
                <a:lnTo>
                  <a:pt x="19913" y="21600"/>
                </a:lnTo>
                <a:lnTo>
                  <a:pt x="17922" y="16200"/>
                </a:lnTo>
                <a:lnTo>
                  <a:pt x="18766" y="16200"/>
                </a:lnTo>
                <a:arcTo wR="9535" hR="21600" stAng="-1819500" swAng="-3445793"/>
                <a:lnTo>
                  <a:pt x="10378" y="85"/>
                </a:lnTo>
                <a:arcTo wR="9535" hR="21600" stAng="-5534707" swAng="-5265293"/>
                <a:close/>
              </a:path>
              <a:path fill="darkenLess" w="21600" h="21600">
                <a:moveTo>
                  <a:pt x="0" y="21600"/>
                </a:moveTo>
                <a:arcTo wR="9535" hR="21600" stAng="10800000" swAng="5400000"/>
                <a:lnTo>
                  <a:pt x="9535" y="0"/>
                </a:lnTo>
                <a:arcTo wR="9535" hR="21600" stAng="-5400000" swAng="134707"/>
                <a:lnTo>
                  <a:pt x="10378" y="85"/>
                </a:lnTo>
                <a:arcTo wR="9535" hR="21600" stAng="-5534707" swAng="-5265293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rved Down Arrow 11"/>
          <p:cNvSpPr/>
          <p:nvPr/>
        </p:nvSpPr>
        <p:spPr>
          <a:xfrm>
            <a:off x="3505320" y="4114800"/>
            <a:ext cx="2438280" cy="380880"/>
          </a:xfrm>
          <a:custGeom>
            <a:avLst/>
            <a:gdLst>
              <a:gd name="textAreaLeft" fmla="*/ 563760 w 2438280"/>
              <a:gd name="textAreaRight" fmla="*/ 181368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rved Up Arrow 13"/>
          <p:cNvSpPr/>
          <p:nvPr/>
        </p:nvSpPr>
        <p:spPr>
          <a:xfrm>
            <a:off x="4114800" y="5334120"/>
            <a:ext cx="990720" cy="380880"/>
          </a:xfrm>
          <a:custGeom>
            <a:avLst/>
            <a:gdLst>
              <a:gd name="textAreaLeft" fmla="*/ 189360 w 990720"/>
              <a:gd name="textAreaRight" fmla="*/ 723960 w 9907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-3360022"/>
                <a:lnTo>
                  <a:pt x="21337" y="5400"/>
                </a:lnTo>
                <a:lnTo>
                  <a:pt x="18225" y="0"/>
                </a:lnTo>
                <a:lnTo>
                  <a:pt x="14587" y="5400"/>
                </a:lnTo>
                <a:lnTo>
                  <a:pt x="16274" y="5400"/>
                </a:lnTo>
                <a:arcTo wR="8269" hR="21600" stAng="2039978" swAng="3086170"/>
                <a:lnTo>
                  <a:pt x="9957" y="21145"/>
                </a:lnTo>
                <a:arcTo wR="8269" hR="21600" stAng="5673852" swAng="5126148"/>
                <a:close/>
              </a:path>
              <a:path fill="darkenLess"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273852"/>
                <a:lnTo>
                  <a:pt x="9957" y="21145"/>
                </a:lnTo>
                <a:arcTo wR="8269" hR="21600" stAng="5673852" swAng="5126148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rved Up Arrow 14"/>
          <p:cNvSpPr/>
          <p:nvPr/>
        </p:nvSpPr>
        <p:spPr>
          <a:xfrm>
            <a:off x="4267080" y="5334120"/>
            <a:ext cx="1676520" cy="457200"/>
          </a:xfrm>
          <a:custGeom>
            <a:avLst/>
            <a:gdLst>
              <a:gd name="textAreaLeft" fmla="*/ 366480 w 1676520"/>
              <a:gd name="textAreaRight" fmla="*/ 123984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emc.maricopa.edu/faculty/farabee/BIOBK/dihyb2.gif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t x Het dihybrid cross yields the typical phenotypic ratio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9: 3: 3: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dihybrid.jpg"/>
          <p:cNvPicPr/>
          <p:nvPr/>
        </p:nvPicPr>
        <p:blipFill>
          <a:blip r:embed="rId1"/>
          <a:stretch/>
        </p:blipFill>
        <p:spPr>
          <a:xfrm>
            <a:off x="3124080" y="2743200"/>
            <a:ext cx="57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the gene that causes a unibrow (u) is recessive to not connected eyebrows (U); the gene for thick lips (T) is dominant over the gene for thin lips (t).  If a male that is homozygous for not connected eyebrows and heterozygous for thick lips mates with a woman who has a unibrow and is heterozygous for thick lips, what is the phenotypic ratio of the offsp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jolill\AppData\Local\Microsoft\Windows\Temporary Internet Files\Content.IE5\7CPA9WEO\MCj04363910000[1].png"/>
          <p:cNvPicPr/>
          <p:nvPr/>
        </p:nvPicPr>
        <p:blipFill>
          <a:blip r:embed="rId1"/>
          <a:stretch/>
        </p:blipFill>
        <p:spPr>
          <a:xfrm rot="19988400">
            <a:off x="990360" y="761760"/>
            <a:ext cx="12952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jolill\AppData\Local\Microsoft\Windows\Temporary Internet Files\Content.IE5\7CPA9WEO\MCj04363910000[1].png"/>
          <p:cNvPicPr/>
          <p:nvPr/>
        </p:nvPicPr>
        <p:blipFill>
          <a:blip r:embed="rId2"/>
          <a:stretch/>
        </p:blipFill>
        <p:spPr>
          <a:xfrm rot="1558200">
            <a:off x="6933960" y="838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jolill\AppData\Local\Microsoft\Windows\Temporary Internet Files\Content.IE5\ZIHHMIK6\MCPE02771_0000[1].wmf"/>
          <p:cNvPicPr/>
          <p:nvPr/>
        </p:nvPicPr>
        <p:blipFill>
          <a:blip r:embed="rId3"/>
          <a:stretch/>
        </p:blipFill>
        <p:spPr>
          <a:xfrm flipH="1" rot="20163000">
            <a:off x="565200" y="25812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jolill\AppData\Local\Microsoft\Windows\Temporary Internet Files\Content.IE5\ZIHHMIK6\MCPE02771_0000[1].wmf"/>
          <p:cNvPicPr/>
          <p:nvPr/>
        </p:nvPicPr>
        <p:blipFill>
          <a:blip r:embed="rId4"/>
          <a:stretch/>
        </p:blipFill>
        <p:spPr>
          <a:xfrm flipH="1" rot="1374000">
            <a:off x="7195680" y="401400"/>
            <a:ext cx="1371600" cy="45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jolill\AppData\Local\Microsoft\Windows\Temporary Internet Files\Content.IE5\9ISTM1HJ\MCDD00839_0000[1].wmf"/>
          <p:cNvPicPr/>
          <p:nvPr/>
        </p:nvPicPr>
        <p:blipFill>
          <a:blip r:embed="rId5"/>
          <a:stretch/>
        </p:blipFill>
        <p:spPr>
          <a:xfrm rot="1266600">
            <a:off x="7165800" y="296640"/>
            <a:ext cx="17067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set it 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UT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u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sible Different Combinations of All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T or Ut    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T or  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jolill\AppData\Local\Microsoft\Windows\Temporary Internet Files\Content.IE5\ZIHHMIK6\MCPE02771_0000[1].wmf"/>
          <p:cNvPicPr/>
          <p:nvPr/>
        </p:nvPicPr>
        <p:blipFill>
          <a:blip r:embed="rId1"/>
          <a:stretch/>
        </p:blipFill>
        <p:spPr>
          <a:xfrm flipH="1">
            <a:off x="304920" y="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jolill\AppData\Local\Microsoft\Windows\Temporary Internet Files\Content.IE5\ZIHHMIK6\MCPE02771_0000[1].wmf"/>
          <p:cNvPicPr/>
          <p:nvPr/>
        </p:nvPicPr>
        <p:blipFill>
          <a:blip r:embed="rId2"/>
          <a:stretch/>
        </p:blipFill>
        <p:spPr>
          <a:xfrm flipH="1">
            <a:off x="7543800" y="0"/>
            <a:ext cx="1295280" cy="42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jolill\AppData\Local\Microsoft\Windows\Temporary Internet Files\Content.IE5\7CPA9WEO\MCj04363910000[1].png"/>
          <p:cNvPicPr/>
          <p:nvPr/>
        </p:nvPicPr>
        <p:blipFill>
          <a:blip r:embed="rId3"/>
          <a:stretch/>
        </p:blipFill>
        <p:spPr>
          <a:xfrm>
            <a:off x="533520" y="53352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jolill\AppData\Local\Microsoft\Windows\Temporary Internet Files\Content.IE5\ZIHHMIK6\MCHM00295_0000[1].wmf"/>
          <p:cNvPicPr/>
          <p:nvPr/>
        </p:nvPicPr>
        <p:blipFill>
          <a:blip r:embed="rId4"/>
          <a:stretch/>
        </p:blipFill>
        <p:spPr>
          <a:xfrm>
            <a:off x="7391520" y="533520"/>
            <a:ext cx="15238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3429000" y="4114800"/>
          <a:ext cx="2895480" cy="2438280"/>
        </p:xfrm>
        <a:graphic>
          <a:graphicData uri="http://schemas.openxmlformats.org/drawingml/2006/table">
            <a:tbl>
              <a:tblPr/>
              <a:tblGrid>
                <a:gridCol w="609480"/>
                <a:gridCol w="1155960"/>
                <a:gridCol w="1130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800600" y="38098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105520"/>
            <a:ext cx="457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5053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Make one column for each possible different combination of alleles from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495680"/>
            <a:ext cx="228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Make one row for each possible different combination of alleles from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4952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00600" y="40384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9436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ill in th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066680"/>
            <a:ext cx="327672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not connected 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uni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hick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hin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 of the 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0" y="1523880"/>
          <a:ext cx="4419720" cy="4014720"/>
        </p:xfrm>
        <a:graphic>
          <a:graphicData uri="http://schemas.openxmlformats.org/drawingml/2006/table">
            <a:tbl>
              <a:tblPr/>
              <a:tblGrid>
                <a:gridCol w="865440"/>
                <a:gridCol w="1641240"/>
                <a:gridCol w="1913040"/>
              </a:tblGrid>
              <a:tr h="114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28600" y="607860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not connected eyebrows &amp; thick lips  :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not connected eyebrows &amp; thin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enotypi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962520"/>
            <a:ext cx="1904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nclude the phenotypes present in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It Up: Mendel’s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arents pass on characteristics, sexually,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through gen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ir off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When there are multiple alleles (appearances) for one gene, some a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some a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rec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formation of parental gametes,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alleles are segregated into separate gamete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ach parent is then able to pass ONE allele to the child.  The child therefore get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ONE allele from EACH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romosomes (and therefo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alle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rom each parent arrange themselve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independent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mei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11-3 Exploring Mendelian 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ing Beyond Simple 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en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 linked (or sex linked)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neither allele truly dominates over the 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llele is really dominant or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genotype shows a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MI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two tra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- Four O’C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 gene for red flowers, W- gene for white flo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- red,   WW- white, RW-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Example: Snapdra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ncomdom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76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 =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6019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W = 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hat are the cha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with brown hair always have brown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with brown hair have a higher chance of having brown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ound pea seed always yellow?  Can a short plant have purple flow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discovermagazine.com/2007/mar/eye-color-explained/eyes-400.jpg"/>
          <p:cNvPicPr/>
          <p:nvPr/>
        </p:nvPicPr>
        <p:blipFill>
          <a:blip r:embed="rId1"/>
          <a:stretch/>
        </p:blipFill>
        <p:spPr>
          <a:xfrm>
            <a:off x="228600" y="22860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roblucassalon.files.wordpress.com/2007/06/cropped-color.jpg"/>
          <p:cNvPicPr/>
          <p:nvPr/>
        </p:nvPicPr>
        <p:blipFill>
          <a:blip r:embed="rId2"/>
          <a:stretch/>
        </p:blipFill>
        <p:spPr>
          <a:xfrm>
            <a:off x="3429000" y="1295280"/>
            <a:ext cx="46483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both alleles are domina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ele is really reces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genotype show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two tra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- Chicken fe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 gene for black feathers, W- gene for white fea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- black,   WW- whi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W- “erminette” Black and Wh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www.harvestofhistory.org/assets/object-images/main/dominique.jpg"/>
          <p:cNvPicPr/>
          <p:nvPr/>
        </p:nvPicPr>
        <p:blipFill>
          <a:blip r:embed="rId1"/>
          <a:stretch/>
        </p:blipFill>
        <p:spPr>
          <a:xfrm>
            <a:off x="6934320" y="4343400"/>
            <a:ext cx="1930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Multiple All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genes have more than just two alleles for a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you can still only have 2 alleles at a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just ONE gene, but lots of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lleles for rabbit 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full color, dominates over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inchilla, dominates over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imalayan,  dominates ove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  albino,   recessive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3" descr="rabbit color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Practice Cro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Heather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Heather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x  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henotypes of the par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gray x al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Punnett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an offspring will be albino (albino = cc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out of 4  = 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an offspring will be himalayan (himalayan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ut of 4 =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867280" y="3048120"/>
          <a:ext cx="2819520" cy="21333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57"/>
          <p:cNvSpPr/>
          <p:nvPr/>
        </p:nvSpPr>
        <p:spPr>
          <a:xfrm>
            <a:off x="6248520" y="24382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5105520" y="4267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5105520" y="3124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7467480" y="2438280"/>
            <a:ext cx="609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g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g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malay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malay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Polygenic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its result from the interaction of several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genes, perhaps on different chromosomes ev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one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enic traits can produce a large range of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human skin color (at least 4 genes), human eye color, human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ontent Placeholder 3" descr="skin.gif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= dark;  small letters = light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rk alleles = dark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fig.cox.miami.edu/~cmallery/150/mendel/sf10x20b.jpg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ation of Human Skin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SKIN1A"/>
          <p:cNvPicPr/>
          <p:nvPr/>
        </p:nvPicPr>
        <p:blipFill>
          <a:blip r:embed="rId1"/>
          <a:stretch/>
        </p:blipFill>
        <p:spPr>
          <a:xfrm>
            <a:off x="457200" y="11430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skin1b"/>
          <p:cNvPicPr/>
          <p:nvPr/>
        </p:nvPicPr>
        <p:blipFill>
          <a:blip r:embed="rId2"/>
          <a:stretch/>
        </p:blipFill>
        <p:spPr>
          <a:xfrm>
            <a:off x="4648320" y="1143000"/>
            <a:ext cx="42764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ght in Hu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phenotypes resulting from polygenic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49ab8f77-f675-423a-b8af-d46874987ab3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Human Bloo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3 special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le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, B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gen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e gene controls type, another gene controls rH factor (+,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and B are codominant but both dominate over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heritance of one gene does not influence the inheritance of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name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iosis, the chromosomes line up randomly on the equator to be separa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parents are heterozygous for any traits, this leads to lots of possibili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bloodtyp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6_3T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What does your blood type actually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blood_type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57200"/>
            <a:ext cx="8381880" cy="6199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it is the chromosomes that are segregated independently, not necessarily individual ge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enes are LINKED if they are on the same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you get all of the genes on chromosome 1 from your mom if you get her chr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always the case though?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you know might happen?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5410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ing on how FAR APART genes are on chromosomes, they may be switched during mei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during Prophase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be 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456840"/>
            <a:ext cx="2819520" cy="566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phschool.com/science/biology_place/labbench/lab3/images/crossovr.gif"/>
          <p:cNvPicPr/>
          <p:nvPr/>
        </p:nvPicPr>
        <p:blipFill>
          <a:blip r:embed="rId2"/>
          <a:stretch/>
        </p:blipFill>
        <p:spPr>
          <a:xfrm>
            <a:off x="6172200" y="609480"/>
            <a:ext cx="2286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hapter 11E.mpg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240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ssing O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ctual genes are located on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by a student working in molecular lab at Columbia in 193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oking at statistical inheritance patterns, you can calculate the “recombination frequency” of all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enes are far apart, crossing over is more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-linked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alled X- link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 can be dominant or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inheritance is altered because the trait is on the X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- XX   Males-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Examples of X-linked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h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hemophb"/>
          <p:cNvPicPr/>
          <p:nvPr/>
        </p:nvPicPr>
        <p:blipFill>
          <a:blip r:embed="rId1"/>
          <a:stretch/>
        </p:blipFill>
        <p:spPr>
          <a:xfrm>
            <a:off x="3505320" y="17524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5334120"/>
            <a:ext cx="2743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= hemophiliac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8195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476760" y="31240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89548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Has hemoph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81952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Carries hemophilia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0481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89548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indep assort.gif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13x9independent-assortment.jpg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Mendel figure this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686800" cy="49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experimen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rossed two different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was true-breeding for 2 different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gen: 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rr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yy (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wrinkled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&amp;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RYY (ROUND &amp; YE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gen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 b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ssi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ili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apter 11D.mpg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28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914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gregation of Chromosome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emc.maricopa.edu/faculty/farabee/BIOBK/dihyb2.gif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762120" y="-71280"/>
          <a:ext cx="8305560" cy="70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71280"/>
                    <a:ext cx="830556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WordArt 5"/>
          <p:cNvSpPr txBox="1"/>
          <p:nvPr/>
        </p:nvSpPr>
        <p:spPr>
          <a:xfrm>
            <a:off x="609480" y="152280"/>
            <a:ext cx="455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 Black"/>
              </a:rPr>
              <a:t>Two Trait Cros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40:05Z</dcterms:created>
  <dc:creator>Theresa DeLaurentis</dc:creator>
  <dc:description/>
  <dc:language>en-US</dc:language>
  <cp:lastModifiedBy>udsd</cp:lastModifiedBy>
  <dcterms:modified xsi:type="dcterms:W3CDTF">2010-04-19T20:20:16Z</dcterms:modified>
  <cp:revision>13</cp:revision>
  <dc:subject/>
  <dc:title>Slide 1</dc:title>
</cp:coreProperties>
</file>